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7.jpeg" ContentType="image/jpeg"/>
  <Override PartName="/ppt/media/image16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242-FE08-47B0-8EA0-D0D55A0E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81E-1870-4967-8D21-515023C6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A614A-2EEA-479D-86B2-2ECDDF42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4EEE5-09D6-4230-8A22-8255D850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76EED-A3E8-46C8-AD88-BA7D77F8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CF37B-7025-4EA1-A283-8F0AD3C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FCD77-CF61-4D96-B87E-0A6B3979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15D19-291B-420B-A16A-74FC2E04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347EC-0EF3-48FE-9DC9-71D534A6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F1105-BC1C-47DF-8BD7-1048F06D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49514-83C7-42BA-A39C-AD78DB17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9F689-5734-40EF-8020-B9DD2762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653-C2D4-496B-8CAE-4B92AF28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6E01E-95D9-4C8E-B0A7-2EA4A517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250E6-3F96-4E00-BABA-8B9AAD0A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C92D2-BD46-4C15-AE4A-0B26C4EE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2E823-69C4-4031-8E82-FE63F2A5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E21E0-1CF1-4E33-94AA-D237B7C6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99BEF-C7C0-4D14-ABDF-42F1CF7D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DBD6A-7C47-4011-A437-7285388D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5B57D-8125-4403-B1AF-63861F52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B4D3B-BC6C-4257-8B46-77B4C232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15EE1-A48C-481B-9800-B3EF7543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172-3A0F-4FE4-9281-D0667DD6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B67BB-7AFE-49F6-AF27-4250C8DD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DF793-F4B8-48B9-AA0D-DA0256C2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443BE-A518-4F25-B558-8F26B609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1595D-01C0-4C62-B5CB-C7C0068B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91021-0FE1-4BE0-AC5F-3B4CBC26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78B7D-CA9E-4689-9B5C-F7939153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0EC14-B8B7-4675-831F-C899BD60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7082E-8AC7-435A-9930-A4FF4FE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F6A30-D2B5-477A-9727-D9FC7E88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B899A-82AC-4F75-9113-EFA985A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3FA5-6A25-4628-AA61-262C289D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A0A2D-1543-4C30-B8D6-08A722E2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C64E1-1001-4A0A-8BFD-C257D1A3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84405-82FE-4540-B1C7-170A7ABC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399F5-28F2-47D4-9666-4EA7EFEE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B49AE-30FC-48F8-827F-094476F0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2ED5E-4D31-4CD3-927E-B26668D1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43010-C353-42B7-8ED0-6ED69A82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55968-524E-4847-9144-8C91E646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22DEA-D682-4622-A64D-22F86C18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98D68-9B02-485C-A1D6-9810E32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AC93-12A4-43F6-88C9-9BA2B722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A5201-8FFB-4942-88D4-66602D37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94AAF-CF1C-4690-9A93-15BC159A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019F7-00C5-4DE9-893D-23DAB424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80E0B-5E08-46ED-A506-14F07C9A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CEAC6-615A-4673-BB07-0914FA27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8DD8E-567A-4861-BFD2-8EC50E96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3C667-E21E-4A78-A985-70E88C7A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2EC26-5718-4A2F-8FE8-CEBDE696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F6848-92F3-4542-BC2F-F4DCDD80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2479F-56EC-4363-B3F0-F1DE5AF6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CADE-D74D-4255-BFE1-F8681AC4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3C13D-FBE2-4CE7-A5B8-2DE72C65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240B0-4FC7-4A6B-85C3-33DC8FA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43AB0-646A-4877-A5FC-70A99D84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328FF-5550-4261-AAC2-FA32553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55164-F4CF-4783-A56D-02F7E73C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FEBE1-07AD-4BE8-B8B3-59CF3F0F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37C6D-411B-4A95-8ADE-E52E3AAE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28CF3-CF91-4E12-964F-3379C6B2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1F917-56B8-4E45-B599-D9F6941E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F2D80-A5F9-48A2-A339-C7A0240A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C180-A5E6-4A57-A9BF-251F4840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7E81A-9924-4E19-B964-1D293E6C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12211-EBC3-443A-B5D1-5BE63266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4C0A3-9908-49E8-AB63-9D12C9F9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2645D-0A60-459D-8877-9373E65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58B00-5F6A-41EE-B00D-C9B03FCC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67965-E0E4-4012-8841-181AC613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78EC3-1F03-427D-B5A4-098D2DF7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B3C7C-BFF4-4475-994B-936502B7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31F01-298E-4CA8-AB05-2D4522DE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B494E-0157-4493-ACB2-89A14D6E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860C-807D-43E0-B985-07FB3CA7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91E4F-968A-445A-85C6-ACB402FD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56976-4B71-4AEA-9E24-BBC42763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BB757-E541-4149-AA68-FB739AC3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843A5-48B8-40D0-A5C8-4875A26F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12A54-2C7B-41FC-94B9-AA1CCB43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B3BAA-A117-4B9D-AAC2-491062E6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DC83E-6484-4020-B369-396B2A3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B5541-46A1-49B5-85C9-9C16C11E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6D0B5A-5F35-4523-8E4F-4E1A2EDA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49060-1643-49B9-B0F3-978F3A26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4B83-7784-46EB-9167-B7714824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ABE6E-CC9F-4CB9-B287-D7EF6B62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51DEDD-DB6D-4D6C-8E4E-49EC6FAB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B0B72-F5A5-47B6-B59C-A66426B5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AC654-1131-4330-8D05-16552B0C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72D19-A0F9-41A5-A923-EA0AB0FA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1DBDD-6E3F-4D2F-8F13-8E875AF9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74EDFE-ADF7-4E3D-B8A3-EB385930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956C4-55C0-44F3-A81A-32758699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232E5-26FD-4BD6-BB86-DEEED558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B8B68-7A1A-4BFF-B7C8-ACCB327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DC88-D780-4319-8E96-E108C1A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69F9B-9FE8-4248-8D5A-BAB21979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3D698-A860-4396-A1D1-A5836ED2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98DF4-3E46-417E-8D6C-2E5E5603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ADF42B-F3CC-4AED-ABC3-1DC3AF54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98A4C-F75E-454A-8F79-E23FCE6A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F3884-41B3-47F4-8701-E548BDCE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72BDC-15FC-4757-956F-173EA66E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D5476-6781-4682-925F-5F7984A5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B0BA8-54D6-48CB-986D-7484B918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DBA55-4D77-4783-B07B-89B759DF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B75-33FF-485B-BAF9-2CE7A6D2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A258-DF11-4C69-928A-A266EBB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41D73-FF1D-4ED9-9DBE-3FB256F4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52FC7-9C29-47FC-BD25-15A94A1A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5FFD1-248B-44E3-BDF3-526AE49A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31758D-6695-4071-9E1F-7E807CD8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DBEAE-443B-4E79-8DBF-4269823B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B7C2C5-1CCD-454A-850B-D1F59F7A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1395B3-12BA-470F-AFAF-1F95D00C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058F63-944E-4DA5-8B07-3CF2825C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1E680C-D8F4-4F98-A42C-923CFD17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EA6F38-6980-47B8-95F9-9B2DD533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F9E3-293E-44F6-8194-3EFE373E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FE4E923-4F50-414E-8A1C-1202119D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7F1BCF4-C116-43E6-93C6-33C39F3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64DC97-936B-4190-914A-4B18AE2F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CFC868-F1F3-4424-A682-EE06BD92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F109F4-9157-48DD-9CFE-B06E9448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6A3C27-81E5-464B-9AE4-A14CD39C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074400-BAE7-481F-8BA5-7DFAEA61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1C535-D9C3-4098-B77B-EB16C8E3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80A77-41B3-4ECE-9FD7-F60A14E9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52B11B-4AEF-4E1C-B64B-7C7F7385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76D8-76C2-4CBA-B79B-7FA68D63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F635DC-0CC3-4758-B5EB-8E4C0155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238564-0D2E-45F6-BE4E-38FBB59D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7729E-4346-463B-B713-F362E792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DE8380-C484-4FA1-B877-4487ACEF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569AF-054F-4DA9-93D4-EADCD547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FBD45-A91D-4462-ADB6-3A83720E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DDC06-A477-4054-864A-C1B42A56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F085F7-F203-462C-9D7E-127210C1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CAB684-DE64-4336-9EC6-75BDD514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B4B84-A56D-4D60-97F9-3EB48521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090D-B7B2-433D-ABE9-CF293CC1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D9D2B3-C72A-4099-AA9C-B22DA4B3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0CFB0-EEF1-4440-BD2A-262E34A0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11925-0568-4B78-BA7A-498112D4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8B0740-F503-4AE2-95A9-57DF3A16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7D544-3C9F-447C-B01F-DB7E80A1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338E6-E230-4D5D-B2FB-2101749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C3325-5406-421B-8182-56C92C34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04490A-B4EC-40E6-9AEB-5583658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CFD6D-ABDB-46BE-98D0-3C34E850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5D75E-5AD9-4CDC-A72F-61B87CFF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9CF8-97C3-4538-9C6E-FFE59AAF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A3F020-A609-43AC-B297-CD6B6BE9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09C00-642D-4529-87C2-8D0CD86F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91101-F10B-4111-9055-2667B73B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D0481-6209-46E8-92D4-E3A924D6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67AB31-DAEE-4BF8-B822-600AF5DC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639E9-C8F6-47F7-8713-7FA82E01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D7A70-F00F-446F-A3E0-28A7D1A5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6BF37B-E01D-4861-8649-56234367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47209-9A5D-4C26-8ECB-2B88F545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75611E-77DA-454B-AF83-F614F496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ECA3-3FBA-4DEE-BFD5-36449CDC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69D09-80D8-4941-83BF-B2E69D55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8B068-F6CB-4654-A263-43C3B4B5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A9A75-7A76-47AB-BC46-4951E508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6929CF-B428-444F-98F0-2BF80D75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DDACD1-E19E-461D-8CD1-EE75E58B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948B8B-50BB-4468-B698-FA6DBB2D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F357DF-6F43-4C41-855F-AF4B62CD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8E741-FD38-4238-9BE8-B45C1438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B655A8-0435-47F8-A29D-DC714F47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946F95-06CC-4342-9D57-2C55947A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DB4C7-A2EF-4652-9BF6-A3ABFE9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38B107-D6E5-489B-A94C-7BA78376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6BF2CA-0E2C-499F-AFE6-D503C95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28E9D-9867-4A20-BC3C-28D79863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CBF031-62F9-4149-9992-641FBE2F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95B146-364F-4803-BD45-7A551B19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6AE6-5004-49FC-B640-A4AE0B8F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83C8-B7FB-4397-9586-3520DDA8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15C6-9382-4017-9008-31491724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B48-643A-4313-8490-7F405C7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8B4E-F48A-45A4-9D57-B309F6CC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D56B-21D8-478D-A291-89FB5E0A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9027-EFED-4897-B355-40C9B431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A2CE-F165-4A49-84CF-5E36C01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18BF-9E7E-4E99-A022-5BEC462B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C0E9-BE21-49A4-BED7-810A66E3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BA63-C765-401C-9894-F637538F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76F5-FB3B-491C-82ED-B8A8A9DD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A48D-4F7C-41BC-AAB9-F1A6757A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629E-072C-4088-8552-8261F00B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660-6947-4C25-BCAE-4A42CC8E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FF0E-F0A6-4FB3-9E3E-495CD7DA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AC48-CD75-41AA-8DE6-2C81A002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E4DB-5036-4E7E-8378-6911F48B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7267-75BE-4B16-9A26-BA3962B3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822E-BB2B-4EFD-9907-0FDB2A4F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49CCE-EC13-4967-8D12-F6086548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33130-C4D7-4390-9A10-3BF7D6AF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99A3-6A87-4564-8815-4AB9C29A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B834D-D438-44C7-89DD-1139CF53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5DFBD-AB7C-4992-BD1F-7CCB0B66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7D2-08A0-40E3-BFFD-1DD7EBFE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ED1D3-9DC5-482A-8006-5EA66C41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EF926-EA3D-4694-8DFB-539FF80E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FA515-7BB3-47D3-BD9D-50850CA6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846E-91F7-4BE8-BDDF-3537411F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B24E0-06E9-463B-8C88-90613A70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5159-A8E3-47BC-9163-F9DF0D4F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F82A-1767-4269-B9CE-2C01F25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223E-9223-47C8-9E06-020C1F5A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B842C-AAAB-4F15-9162-5406A3FE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82961-EAA0-4F25-93BF-96EB9AFC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2BD-14B6-4036-A66A-A43D13A8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0DD6-3B3D-467F-8ECC-E36CAF43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1A72D-6499-4ABF-A1BC-CDE47613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A7787-C990-49AD-81D3-D537F2EE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54C0F-4347-4EC0-8837-E10DDBAC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AE1D2-CE18-4AC9-8BA3-081AD459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2292D-DD83-4A17-B194-564F83CB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84057-1211-48AC-AACE-A565F70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AECAC-09FF-467A-BCDC-3F9C5CF8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43C94-A42A-4E0F-8655-F92DED40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F577F-B065-45E8-B720-27862D1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9EF-2A8E-41CF-8BA4-D6B3E10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9E2F7-7AAD-4506-9152-7CA173A4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E4FF8-9BF6-4D53-A485-E258D13E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F1005-139B-4D7C-9364-1BABFE70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79917-FCE3-4889-B18B-02359805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B2BF08-1505-4E5C-83B4-8DF804C2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3A391-9EEE-48D4-9D94-31142166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45D6B-2C71-4C38-9308-E50B6DA0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FA987-4199-40F3-B9D9-0F910915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03A7C-8ADD-4167-8BDA-3E23C42A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F7D95-2015-4BFD-8E2E-7CAE49E6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973-8669-433B-B114-5674FC32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D8939-9B75-49CF-9669-461817B6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FB787-A71B-4CA4-9698-DCF489A4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1255E-485C-43C3-802D-42D2A32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2DA02-C3AF-4A33-A6E2-6C864426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B069D-9499-4629-9487-3E842BCF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D5CD-031F-424B-95DE-73CF4B78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00538-9BFF-4562-97B0-FEF912B0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23C1E-D96A-4D8E-991E-159AA4AE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5201E-D938-4E69-8572-85B672B0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64CA1-1A1A-492F-909C-901DA710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F73-FF28-48E1-8FF1-046B074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C63E8-0F20-4F4C-9E95-CD4FB052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4665D-4F04-4347-AF5E-25C1FE19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A4096-81F1-4B4D-96D4-1955CF6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CF93D-248A-4C94-B229-B51317CF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5FDC7-2D96-43EC-9CB2-1DD7A850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47852-068F-442F-9482-811E654E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7810C-DEB9-45BC-AA82-AA4B8721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657FA-F0E7-408D-8EF3-8EA7823D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DFB98-DC52-42E9-B634-801E0F45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8E2CD-D9F3-4D8E-9404-76ED5216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217.xml"/><Relationship Id="rId35" Type="http://schemas.openxmlformats.org/officeDocument/2006/relationships/slideLayout" Target="../slideLayouts/slideLayout218.xml"/><Relationship Id="rId36" Type="http://schemas.openxmlformats.org/officeDocument/2006/relationships/slideLayout" Target="../slideLayouts/slideLayout219.xml"/><Relationship Id="rId37" Type="http://schemas.openxmlformats.org/officeDocument/2006/relationships/slideLayout" Target="../slideLayouts/slideLayout220.xml"/><Relationship Id="rId38" Type="http://schemas.openxmlformats.org/officeDocument/2006/relationships/slideLayout" Target="../slideLayouts/slideLayout221.xml"/><Relationship Id="rId39" Type="http://schemas.openxmlformats.org/officeDocument/2006/relationships/slideLayout" Target="../slideLayouts/slideLayout222.xml"/><Relationship Id="rId40" Type="http://schemas.openxmlformats.org/officeDocument/2006/relationships/slideLayout" Target="../slideLayouts/slideLayout223.xml"/><Relationship Id="rId41" Type="http://schemas.openxmlformats.org/officeDocument/2006/relationships/slideLayout" Target="../slideLayouts/slideLayout224.xml"/><Relationship Id="rId42" Type="http://schemas.openxmlformats.org/officeDocument/2006/relationships/slideLayout" Target="../slideLayouts/slideLayout225.xml"/><Relationship Id="rId43" Type="http://schemas.openxmlformats.org/officeDocument/2006/relationships/slideLayout" Target="../slideLayouts/slideLayout226.xml"/><Relationship Id="rId44" Type="http://schemas.openxmlformats.org/officeDocument/2006/relationships/slideLayout" Target="../slideLayouts/slideLayout227.xml"/><Relationship Id="rId4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229.xml"/><Relationship Id="rId32" Type="http://schemas.openxmlformats.org/officeDocument/2006/relationships/slideLayout" Target="../slideLayouts/slideLayout230.xml"/><Relationship Id="rId33" Type="http://schemas.openxmlformats.org/officeDocument/2006/relationships/slideLayout" Target="../slideLayouts/slideLayout231.xml"/><Relationship Id="rId34" Type="http://schemas.openxmlformats.org/officeDocument/2006/relationships/slideLayout" Target="../slideLayouts/slideLayout232.xml"/><Relationship Id="rId35" Type="http://schemas.openxmlformats.org/officeDocument/2006/relationships/slideLayout" Target="../slideLayouts/slideLayout233.xml"/><Relationship Id="rId36" Type="http://schemas.openxmlformats.org/officeDocument/2006/relationships/slideLayout" Target="../slideLayouts/slideLayout234.xml"/><Relationship Id="rId37" Type="http://schemas.openxmlformats.org/officeDocument/2006/relationships/slideLayout" Target="../slideLayouts/slideLayout235.xml"/><Relationship Id="rId38" Type="http://schemas.openxmlformats.org/officeDocument/2006/relationships/slideLayout" Target="../slideLayouts/slideLayout236.xml"/><Relationship Id="rId39" Type="http://schemas.openxmlformats.org/officeDocument/2006/relationships/slideLayout" Target="../slideLayouts/slideLayout237.xml"/><Relationship Id="rId40" Type="http://schemas.openxmlformats.org/officeDocument/2006/relationships/slideLayout" Target="../slideLayouts/slideLayout238.xml"/><Relationship Id="rId41" Type="http://schemas.openxmlformats.org/officeDocument/2006/relationships/slideLayout" Target="../slideLayouts/slideLayout239.xml"/><Relationship Id="rId42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0039-416F-4975-8195-92231519A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29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8D1B-9341-446F-BFA5-70DDD19405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8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8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0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E2ED-42E6-47BD-BC8E-CEA9760A49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7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7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9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7532-B40A-4F01-8510-7C886AFB31E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6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159B-EA7C-4189-923E-5122400CA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1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331D-E61A-4895-8698-CA4C7E300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6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6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6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7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BB3C-9CC1-4F8E-9A7F-B1CBAA9997B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14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4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14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7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8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9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9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9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9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21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1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2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2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3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23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24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24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24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4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24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5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2C54-7B44-4A80-AF94-9110EA7FC03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82A7-831B-4E61-84F7-084B288A7B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3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3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3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2BDA-BACF-47D5-BB81-DB843327A0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3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3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4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4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5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5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7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 type="dt" idx="5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 type="ftr" idx="5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 type="sldNum" idx="5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2E7D-39BC-407F-908A-2653F62D2E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4"/>
    <p:sldLayoutId id="2147483884" r:id="rId35"/>
    <p:sldLayoutId id="2147483885" r:id="rId36"/>
    <p:sldLayoutId id="2147483886" r:id="rId37"/>
    <p:sldLayoutId id="2147483887" r:id="rId38"/>
    <p:sldLayoutId id="2147483888" r:id="rId39"/>
    <p:sldLayoutId id="2147483889" r:id="rId40"/>
    <p:sldLayoutId id="2147483890" r:id="rId41"/>
    <p:sldLayoutId id="2147483891" r:id="rId42"/>
    <p:sldLayoutId id="2147483892" r:id="rId43"/>
    <p:sldLayoutId id="2147483893" r:id="rId44"/>
    <p:sldLayoutId id="2147483894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BAC7-162D-41B7-82CC-15B5678C9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3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3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3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3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3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5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7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dt" idx="5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ftr" idx="5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sldNum" idx="6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3339-A568-41ED-8759-9AD3DB0411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1"/>
    <p:sldLayoutId id="2147483897" r:id="rId32"/>
    <p:sldLayoutId id="2147483898" r:id="rId33"/>
    <p:sldLayoutId id="2147483899" r:id="rId34"/>
    <p:sldLayoutId id="2147483900" r:id="rId35"/>
    <p:sldLayoutId id="2147483901" r:id="rId36"/>
    <p:sldLayoutId id="2147483902" r:id="rId37"/>
    <p:sldLayoutId id="2147483903" r:id="rId38"/>
    <p:sldLayoutId id="2147483904" r:id="rId39"/>
    <p:sldLayoutId id="2147483905" r:id="rId40"/>
    <p:sldLayoutId id="2147483906" r:id="rId41"/>
    <p:sldLayoutId id="2147483907" r:id="rId42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7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 type="dt" idx="6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197B-812F-43A5-A837-80B67A5AEB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10BC-BFBF-4AFE-A71F-E81E1784F4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0A42-CE96-4CC6-80F8-619E1D8643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80F0-AE33-48FE-B1CD-25EDC00791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7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FBC9-412B-4ADF-AAC9-CB5D45CC25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1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F049-DCE7-4225-839F-558BBC178C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5824-B9F0-42CC-9483-F04A3AF95F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65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805F-4A30-433A-89DD-440583B952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1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7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1850-7F01-4021-A4F6-EFED7EB002C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21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vokrugsveta.ru/encyclopedia/index.php?title=&#1040;&#1084;&#1077;&#1088;&#1080;&#1082;&#1072;" TargetMode="External"/><Relationship Id="rId3" Type="http://schemas.openxmlformats.org/officeDocument/2006/relationships/hyperlink" Target="http://www.worldofcoins.ru/subjects/columbus.htm" TargetMode="External"/><Relationship Id="rId4" Type="http://schemas.openxmlformats.org/officeDocument/2006/relationships/hyperlink" Target="http://ru.wikipedia.org/wiki/&#1061;&#1088;&#1080;&#1089;&#1090;&#1086;&#1092;&#1086;&#1088;_&#1050;&#1086;&#1083;&#1091;&#1084;&#1073;" TargetMode="External"/><Relationship Id="rId5" Type="http://schemas.openxmlformats.org/officeDocument/2006/relationships/hyperlink" Target="http://dic.academic.ru/dic.nsf/ruwiki/11719" TargetMode="External"/><Relationship Id="rId6" Type="http://schemas.openxmlformats.org/officeDocument/2006/relationships/slideLayout" Target="../slideLayouts/slideLayout24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Monotype Corsiva"/>
              </a:rPr>
              <a:t>Сколько путешествий совершил Колумб к С. Америке?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subTitle"/>
          </p:nvPr>
        </p:nvSpPr>
        <p:spPr>
          <a:xfrm>
            <a:off x="179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Работу выполнил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ученица 7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опова Екате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2932200" cy="3449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Четвертая экспеди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6 апреля — Колумб выходит в море и возобновляет поиски пролива, двигаясь на восток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 мая — Достигнув мыса Тибурон в Дарьенском заливе.Колумб поворачивает суда на север, к Ямайк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5 июня — Колумбу после долгих скитаний по морю, в ходе которых он «открыл» Каймановы остров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Июль — Колумб направляет на Эспаньолу посланника в индейской пироге с просьбой к наместнику испанской колонии прийти ему на выручк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Июнь — лишь через год на Ямайку прибывает корабль, снаряжённый за счёт самого Колумб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9 июня — Колумб покидает Ямайку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2745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2 сентября — братья Колумбы покидают Эспаньолу и сквозь многие бури добираются до Кастилии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8"/>
          <a:stretch/>
        </p:blipFill>
        <p:spPr>
          <a:xfrm>
            <a:off x="5867280" y="5084640"/>
            <a:ext cx="1584360" cy="135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Выводы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сего Колумб совершил 4 путешествия к Америке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ервое путешествие (3 августа 1492 — 15 марта 1493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торое путешествие (25 сентября 1493 — 11 июня 1496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Третье путешествие (30 мая 1498 — 25 ноября 1500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Четвёртое путешествие (9 мая 1502 — ноябрь 1504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2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1.(</a:t>
            </a:r>
            <a:r>
              <a:rPr b="0" lang="ru-RU" sz="1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vokrugsveta.ru/encyclopedia/index.php?title=%D0%90%D0%BC%D0%B5%D1%80%D0%B8%D0%BA%D0%B0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2.file://localhost/E:/мои%20документы/Колумб,%20Христофор%20—%20Википедия.mh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ru-RU" sz="1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worldofcoins.ru/subjects/columbus.htm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ru-RU" sz="13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ru.wikipedia.org/wiki/Христофор_Колумб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ru-RU" sz="13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dic.academic.ru/dic.nsf/ruwiki/11719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6.http://www.vokrugsveta.ru/encyclopedia/index.php?title=%D0%9A%D0%BE%D0%BB%D1%83%D0%BC%D0%B1,_%D0%A5%D1%80%D0%B8%D1%81%D1%82%D0%BE%D1%84%D0%BE%D1%8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http://visavis-tour.narod.ru/spain_famous_columb.ht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b7e7ff"/>
                </a:solidFill>
                <a:latin typeface="Monotype Corsiva"/>
              </a:rPr>
              <a:t>Цель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снить причину путешествий Колумба к Амер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Задач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ть какое количество путешествий совершил  Х.Колум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смотреть эти экспедицией Х.Колум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Monotype Corsiva"/>
              </a:rPr>
              <a:t>Первое путешествие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Хронология путеше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Monotype Corsiva"/>
              </a:rPr>
              <a:t>3 августа 149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Колумб вывел корабли из гавани города Палос-де-ла-Фронте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Monotype Corsiva"/>
              </a:rPr>
              <a:t>6 сентябр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После устранения течи на «Пинте» поход продолжен прямо на запад с острова Гомера (Канарские остров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Monotype Corsiva"/>
              </a:rPr>
              <a:t>16 сентябр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на пути экспедиции стали появляться пучки зелёных водорослей. Постепенно их становилось всё больше. Через это странное водное пространство корабли шли три недели. Так было открыто Саргассово мо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Monotype Corsiva"/>
              </a:rPr>
              <a:t>7 октябр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по требованию команды, полагающей, что Японию «проскочили», корабли меняют курс на запад-юго-запа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Monotype Corsiva"/>
              </a:rPr>
              <a:t>12 октябр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в 2 часа пополуночи матросом Родриго де Триана с борта «Пинты» обнаружена земл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Monotype Corsiva"/>
              </a:rPr>
              <a:t>13 октябр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Колумб высадился на берег Остров назван Сан-Сальвадором (подробнее см. Гуанахани)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Monotype Corsiva"/>
              </a:rPr>
              <a:t>28 октября 149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Колумб высадился в бухте Бариэй на северо-востоке Кубы, 76º з.д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7524720" y="2421000"/>
            <a:ext cx="1417680" cy="27352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Monotype Corsiva"/>
              </a:rPr>
              <a:t>Первое путешеств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3 ноября 1492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узнав от туземцев об острове, изобилующем золотом, Колумб двинулся на восток на его поиски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5 ноября 1492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Колумб в своём дневнике впервые описывает табак, который употребляют индейцы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20 ноября 1492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пропала «Пинта»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6 декабря 1492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открыт остров Гаити, который Колумб назвал Эспаньолой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двигаясь вдоль северного берега, испанцы «открыли» остров Тортуга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25 декабря 1492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«Санта-Мария» села на рифы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6 января 1493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у северного берега Эспаньолы «Нинья» натолкнулась на «Пинту»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6 января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два корабля вышли в обратный путь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2 февраля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поднялась буря, и в ночь на 14 февраля корабли потеряли друг друга из виду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Шторм был столь сильным, что испанцы были готовы к неминуемой гибели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5 февраля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когда ветер немного стих, моряки увидели землю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8 февраля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«Нинья» подошла к острову, названному в честь погибшего корабля экспедиции Санта-Мария (Азорские острова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9 марта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«Нинья» бросает якорь в Лиссабоне, где Жуан II принимает Колумба как светлейшего князя и приказывает снабдить того всем необходимым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Garamond"/>
              </a:rPr>
              <a:t>15 марта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— «Нинья» возвращается в Испанию. В тот же день туда приходит и «Пинта»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вращение Христофора Колумба из своей первой экспедиции и весть о том, что он открыл «Западную Индию»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1" name="" descr=""/>
          <p:cNvPicPr/>
          <p:nvPr/>
        </p:nvPicPr>
        <p:blipFill>
          <a:blip r:embed="rId2"/>
          <a:stretch/>
        </p:blipFill>
        <p:spPr>
          <a:xfrm>
            <a:off x="2700360" y="4724280"/>
            <a:ext cx="2592360" cy="180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Второе путешеств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флотилия Колумба состояла уже из 17 суд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ронолог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5 сентября 1493 — экспедиция вышла из Кади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ноября 1493 (в воскресенье) был открыт остров из гряды Малых Антильских островов, названный Домин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ноября — экспедиция прибыла к самому большому из здешних островов, названному Гваделуп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 ноября — открыты острова Монтсеррат, Антигуа, Невис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 ноября — у острова Санта-Крус произошло первое вооружённое столкновение с кариб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5 ноября — к северу от Санта-Круса открыт архипелаг, который Колумб назвал «Островами Одиннадцати тысяч дев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9 ноября — испанцы высадились на западном берегу большого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торый Колумб назвал Сан-Хуан-Баутиста. С XVI века он носит название Пуэрто-Рик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7 ноября — флотилия подошла к построенному в ходе первой экспедиции форту Навидад, но на берегу испанцы обнаружили лишь следы пожарища и труп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4" name="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2638440" cy="1981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Второе путешеств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варь 1494 — к востоку от сожжённого форта построен город, названный Изабеллой. Многих испанцев сразила эпидемия жёлтой лихорадки. Отряд, посланный на разведку внутрь страны, нашёл золото в речном песке в горном районе Кордильера-Сентрал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т 1494 — Колумб совершил поход внутрь остро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4 апреля 1494 — оставив в Изабелле гарнизон под командой своего младшего брата Диего, Колумб повёл три небольших корабля на запад вдоль юго-восточного побережья Куб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мая — обнаружен узкий и глубокий залив .Далее к западу — горы Сьерра-Маэстра. Отсюда Колумб повернул на ю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ая — открыт остров Ямайка (Колумб назвал его Сантьяго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 мая — пройдя вдоль северного берега Ямайки и не найдя золота, Колумб вернулся к Куб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июня — пройдя почти 1700 км вдоль южного побережья Кубы и не дойдя лишь 100 км до западной оконечности острова, Колумб решил повернуть, потому что море сильно обмелело, матросы проявляли недовольство, а провизия была на исход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июня — 29 сентября — на обратном пути обогнули с запада и юга Ямай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 июня 1496 года Христофор Колумб вернулся в Испанию отстаивать предоставленные ему ранее права. Он предоставил документ, согласно которому он действительно достиг Азиатского матер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1860480" cy="1079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Третья экспедиц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30 мая 1498 г. флотилия вышла из устья реки Гвадалквивир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31 июля был открыт остров Тринидад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20 августа Колумб прибыл на Эспаньолу, которую застал в плачевном состоянии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565360" cy="1712880"/>
          </a:xfrm>
          <a:prstGeom prst="rect">
            <a:avLst/>
          </a:prstGeom>
          <a:ln w="0">
            <a:noFill/>
          </a:ln>
        </p:spPr>
      </p:pic>
      <p:pic>
        <p:nvPicPr>
          <p:cNvPr id="1731" name="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2592360" cy="2260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Monotype Corsiva"/>
              </a:rPr>
              <a:t>Четвертая экспедиц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онолог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 апреля 1502 — начало экспеди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5 июня — двигаясь через Малые Антильские острова, «открыл» остров Мартин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9 июня — спасаясь от морской бури, попросил у наместника Эспаньолы Николаса Овандо разрешения укрыться в гавани Санто-Доминго, но ему было отказано. К счастью, суда Колумба справились с бур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юль — Колумб двинулся на запад вдоль южного побережья Эспаньолы и Ямайки. Он намеревался дойти на западе до материка и отыскать пролив, следуя вдоль бере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 — Колумб подошёл к северному берегу земли, населённой народом майя (Гондурас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нтябрь — открыт Москитовый берег (Никарагуа) и «Золотой берег» (позднее — Коста-Рика, «Богатый берег»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7 октября — открыт залив Москитос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ябрь — суда Колумба с трудом продвигаются вдоль побережья Пана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абрь — Экспедиция встречает новый 1503 год в бухте, которая через 400 лет станет северным входом в Панамский кана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нварь 1503 — Колумб возвращается в залив Москитос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4" name="" descr=""/>
          <p:cNvPicPr/>
          <p:nvPr/>
        </p:nvPicPr>
        <p:blipFill>
          <a:blip r:embed="rId1"/>
          <a:stretch/>
        </p:blipFill>
        <p:spPr>
          <a:xfrm>
            <a:off x="5796000" y="5013360"/>
            <a:ext cx="302400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2:58:53Z</dcterms:created>
  <dc:creator>KATERINA</dc:creator>
  <dc:description/>
  <dc:language>en-US</dc:language>
  <cp:lastModifiedBy>KATERINA</cp:lastModifiedBy>
  <dcterms:modified xsi:type="dcterms:W3CDTF">2009-11-26T18:24:37Z</dcterms:modified>
  <cp:revision>10</cp:revision>
  <dc:subject/>
  <dc:title>Сколько экспедиций совершил  Христофор Колумб в Северную Америку?</dc:title>
</cp:coreProperties>
</file>